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14D1-BC89-4132-BC2B-8FE4279520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the Periodic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classify (arrange) elements in different way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/made by scient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/liquid/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/non-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2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– charge means 2 electrons more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have different mass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 to different numbers of neutrons in each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elements exist as a mixture of isotopes, e.g.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an element is the average mass of all the isotopes of that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atomic mass of chlorine is 35.5.  Chlorine has 2 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isotope of mass 35 is present in the largest quant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lists the chemical elements in increa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arranges elements with similar chemical properti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(vertical colum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elements in a group have simi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properties as they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ame number of outer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ic Table of the elements is a useful way of classifying the elemen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tical column of elements in the periodic table is called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ments in the same group of the periodic table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 chemical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 are a group of 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reactive el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s of elements have names: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1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groups 2 and 3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7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0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lkali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ansition 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alog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ble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element is made up of very small particles call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different elements have a different number called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have a very small, positively charg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us, with negatively charged electrons outside the nucleu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ucleus of every atom (except hydrogen) contains two particles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(no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energy levels outside the nucleus we 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(+ve charge / mass 1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–ve charge / mas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1/2000am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positive charge of the nucleus is equal to all of the negative charges of the electrons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negative charg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ositive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re neutral because the numbers of protons and electrons are equal - the opposite charges canc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ato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toms have no charge, the number of electrons is the same as the number of protons. This atom has 17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ide notation – how many protons, neutrons, and electrons in 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rotons + neutr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umber of prot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+ charge means 1 electron less than the number of protons. This atom has 10 elect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3B51-89D9-41DD-B63E-22F84D92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F7B-768B-4107-BFC4-43C25917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092B-8AF5-4A05-B5C8-61B53E66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0708-74B0-4FD9-A4C6-0924B77AE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3BCF-3E9A-47CC-801C-B46D0C2C0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D621-79C8-4AC7-BBC3-5EFED65F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ACB-938C-49B2-977F-7E8964201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1545-9EAB-40BF-AC3C-29D33B52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FF9-FF42-4E5E-AFEF-75E44E31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396A-DE11-4378-BD2C-3555F58B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A062-3F14-4116-BB24-B0BAD4CD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DBA6-AA12-4379-9462-9B80DD21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1" marL="594360" indent="-22860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2" marL="91440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3" marL="128016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4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5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lvl="6" marL="1645920" indent="-182880">
              <a:spcBef>
                <a:spcPts val="1001"/>
              </a:spcBef>
              <a:buClr>
                <a:srgbClr val="000000"/>
              </a:buClr>
              <a:buFont typeface="Bradley Hand IT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radley Hand ITC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2856-72DF-4CE6-8F0B-0CB6379157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and the Periodic Table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We can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assif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(arrange) elements in different ways:-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6094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aturally occurring/made by scienti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609480" y="43434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solid/liquid/g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09480" y="5562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etal/non-met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"/>
          <p:cNvPicPr/>
          <p:nvPr/>
        </p:nvPicPr>
        <p:blipFill>
          <a:blip r:embed="rId2"/>
          <a:stretch/>
        </p:blipFill>
        <p:spPr>
          <a:xfrm>
            <a:off x="480060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"/>
          <p:cNvPicPr/>
          <p:nvPr/>
        </p:nvPicPr>
        <p:blipFill>
          <a:blip r:embed="rId3"/>
          <a:stretch/>
        </p:blipFill>
        <p:spPr>
          <a:xfrm>
            <a:off x="6248520" y="42670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"/>
          <p:cNvPicPr/>
          <p:nvPr/>
        </p:nvPicPr>
        <p:blipFill>
          <a:blip r:embed="rId4"/>
          <a:stretch/>
        </p:blipFill>
        <p:spPr>
          <a:xfrm>
            <a:off x="7740720" y="4267080"/>
            <a:ext cx="1403280" cy="1051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"/>
          <p:cNvPicPr/>
          <p:nvPr/>
        </p:nvPicPr>
        <p:blipFill>
          <a:blip r:embed="rId5"/>
          <a:stretch/>
        </p:blipFill>
        <p:spPr>
          <a:xfrm>
            <a:off x="5029200" y="5486400"/>
            <a:ext cx="1447920" cy="1084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"/>
          <p:cNvPicPr/>
          <p:nvPr/>
        </p:nvPicPr>
        <p:blipFill>
          <a:blip r:embed="rId6"/>
          <a:stretch/>
        </p:blipFill>
        <p:spPr>
          <a:xfrm>
            <a:off x="6705720" y="5486400"/>
            <a:ext cx="1447560" cy="1084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4" descr=""/>
          <p:cNvPicPr/>
          <p:nvPr/>
        </p:nvPicPr>
        <p:blipFill>
          <a:blip r:embed="rId7"/>
          <a:stretch/>
        </p:blipFill>
        <p:spPr>
          <a:xfrm>
            <a:off x="4952880" y="26668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30492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6400800" y="15238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804000" y="177336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O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2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6553080" y="25909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6227640" y="2565360"/>
            <a:ext cx="381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6516720" y="314172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0" y="396252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3851280" y="1557360"/>
            <a:ext cx="2397240" cy="1951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3995640" y="2924280"/>
            <a:ext cx="208908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3"/>
          <p:cNvSpPr/>
          <p:nvPr/>
        </p:nvSpPr>
        <p:spPr>
          <a:xfrm flipV="1">
            <a:off x="4716360" y="3573360"/>
            <a:ext cx="1800360" cy="7192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4"/>
          <p:cNvSpPr/>
          <p:nvPr/>
        </p:nvSpPr>
        <p:spPr>
          <a:xfrm>
            <a:off x="685800" y="4648320"/>
            <a:ext cx="8458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–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mor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5"/>
          <p:cNvSpPr/>
          <p:nvPr/>
        </p:nvSpPr>
        <p:spPr>
          <a:xfrm flipV="1">
            <a:off x="5562720" y="2742840"/>
            <a:ext cx="2590560" cy="20574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0" y="115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Isotop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Isotopes are: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toms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 element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which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different mass number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due to </a:t>
            </a:r>
            <a:r>
              <a:rPr b="1" lang="en-GB" sz="3600" spc="-1" strike="noStrike">
                <a:solidFill>
                  <a:srgbClr val="ab04cc"/>
                </a:solidFill>
                <a:latin typeface="Times New Roman"/>
              </a:rPr>
              <a:t>different numbers of neutron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n each nucleu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Most elements exist as 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mixture of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, e.g.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1116000" y="5156280"/>
            <a:ext cx="762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16765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116000" y="587700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5508720" y="5156280"/>
            <a:ext cx="863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019920" y="5486400"/>
            <a:ext cx="1218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5508720" y="5877000"/>
            <a:ext cx="761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Relative atomic mas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relative atomic mas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an element is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average mass of all the isotop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at element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relative atomic mass of chlorine is 35.5.  Chlorine has 2 isotopes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263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971640" y="3860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55088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990720" y="4724280"/>
            <a:ext cx="761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435640" y="3860640"/>
            <a:ext cx="89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5943600" y="3886200"/>
            <a:ext cx="121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5410080" y="4724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380880" y="541008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</a:rPr>
              <a:t>so the isotope of mass 35 is present in the largest quanti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-100080"/>
            <a:ext cx="9144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of th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lists the chemical elements in increasing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atomic number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Periodic Table arranges elements with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chemical properties in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s (vertical columns)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ll the elements in a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hav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imilar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chemical properties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 as they have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cc0208"/>
                </a:solidFill>
                <a:latin typeface="Times New Roman"/>
              </a:rPr>
              <a:t>same number of outer electron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87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 of the element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is a useful way of classifying the elements.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A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vertical column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elements in the periodic table is called a 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elements in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am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group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periodic table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have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similar chemical propertie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r>
              <a:rPr b="1" lang="en-GB" sz="3600" spc="-1" strike="noStrike">
                <a:solidFill>
                  <a:srgbClr val="1822cd"/>
                </a:solidFill>
                <a:latin typeface="Times New Roman"/>
              </a:rPr>
              <a:t> are a group of very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3600" spc="-1" strike="noStrike">
                <a:solidFill>
                  <a:srgbClr val="5da31e"/>
                </a:solidFill>
                <a:latin typeface="Times New Roman"/>
              </a:rPr>
              <a:t>unreactive elements.</a:t>
            </a: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62" name="Picture 1033" descr=""/>
          <p:cNvPicPr/>
          <p:nvPr/>
        </p:nvPicPr>
        <p:blipFill>
          <a:blip r:embed="rId1"/>
          <a:stretch/>
        </p:blipFill>
        <p:spPr>
          <a:xfrm>
            <a:off x="8317080" y="1484280"/>
            <a:ext cx="682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-3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s of elements have names: –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304920" y="7621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1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2133720"/>
            <a:ext cx="6477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Between groups 2 and 3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28600" y="36576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7 -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1"/>
          <a:stretch/>
        </p:blipFill>
        <p:spPr>
          <a:xfrm>
            <a:off x="8461440" y="0"/>
            <a:ext cx="682560" cy="2428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724280" y="365760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Group 0 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9" descr=""/>
          <p:cNvPicPr/>
          <p:nvPr/>
        </p:nvPicPr>
        <p:blipFill>
          <a:blip r:embed="rId2"/>
          <a:stretch/>
        </p:blipFill>
        <p:spPr>
          <a:xfrm>
            <a:off x="5791320" y="5045040"/>
            <a:ext cx="1828800" cy="18129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4572000" y="609480"/>
            <a:ext cx="1676520" cy="127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4"/>
          <a:stretch/>
        </p:blipFill>
        <p:spPr>
          <a:xfrm>
            <a:off x="6553080" y="2209680"/>
            <a:ext cx="1905120" cy="1465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2819520" cy="2133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24000" y="134136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alkali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380880" y="2708280"/>
            <a:ext cx="4876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transition me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1280" y="4221000"/>
            <a:ext cx="3733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halo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4788000" y="422100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oble g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Every element is made up of very small particles called 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7543800" y="52578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7"/>
          <p:cNvSpPr/>
          <p:nvPr/>
        </p:nvSpPr>
        <p:spPr>
          <a:xfrm>
            <a:off x="0" y="1773360"/>
            <a:ext cx="9144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of different elements have a different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number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alled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ic numb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0" y="3573360"/>
            <a:ext cx="9144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have a very small,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ly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,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with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ly charged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outside the nucleus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7b02cc"/>
                </a:solidFill>
                <a:latin typeface="Times New Roman"/>
              </a:rPr>
              <a:t>energy leve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every atom (except hydrogen) contai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two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particles: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0" y="256536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822c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eu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no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0" y="38098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In </a:t>
            </a:r>
            <a:r>
              <a:rPr b="1" lang="en-GB" sz="4000" spc="-1" strike="noStrike">
                <a:solidFill>
                  <a:srgbClr val="ab04cc"/>
                </a:solidFill>
                <a:latin typeface="Times New Roman"/>
              </a:rPr>
              <a:t>energy level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utside the nucleus we fi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7"/>
          <p:cNvSpPr/>
          <p:nvPr/>
        </p:nvSpPr>
        <p:spPr>
          <a:xfrm>
            <a:off x="0" y="18032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rot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+ve charge / mass 1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(–ve charge / mas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   1/2000am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s are neutral because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positive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nucleu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is equal to all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of the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dded together.</a:t>
            </a:r>
            <a:endParaRPr b="1" lang="en-US" sz="4000" spc="-1" strike="noStrike">
              <a:solidFill>
                <a:srgbClr val="000000"/>
              </a:solidFill>
              <a:latin typeface="Bradley Hand ITC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3581280" y="2438280"/>
            <a:ext cx="3353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 electr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581280" y="29718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negative charge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86000" y="43434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ositive char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V="1">
            <a:off x="2268360" y="2781360"/>
            <a:ext cx="1371600" cy="763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1676520" y="3276720"/>
            <a:ext cx="685800" cy="761760"/>
          </a:xfrm>
          <a:prstGeom prst="line">
            <a:avLst/>
          </a:prstGeom>
          <a:ln w="1260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286000" y="3886200"/>
            <a:ext cx="5257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cc02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 prot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376200" y="4937040"/>
            <a:ext cx="876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tom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  <a:ea typeface="Times New Roman"/>
              </a:rPr>
              <a:t> are neutral because 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h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number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of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  <a:ea typeface="Times New Roman"/>
              </a:rPr>
              <a:t>prot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nd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ons</a:t>
            </a:r>
            <a:r>
              <a:rPr b="1" lang="en-GB" sz="4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re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  <a:ea typeface="Times New Roman"/>
              </a:rPr>
              <a:t>equal - the opposite charges canc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atom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6443640" y="249228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129528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7010280" y="2362320"/>
            <a:ext cx="1440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C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443640" y="3284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28195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156360" y="3284640"/>
            <a:ext cx="380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6443640" y="400536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0" y="4114800"/>
            <a:ext cx="5181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5076720" y="2205000"/>
            <a:ext cx="1371600" cy="4572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3851280" y="3141720"/>
            <a:ext cx="2592360" cy="35856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5"/>
          <p:cNvSpPr/>
          <p:nvPr/>
        </p:nvSpPr>
        <p:spPr>
          <a:xfrm flipV="1">
            <a:off x="4788000" y="4368600"/>
            <a:ext cx="1671480" cy="6804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487692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atoms have no charg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, the number of electrons 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is the same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as the number of protons. This atom has 17 electron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28600" y="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clide notation – how many protons, neutrons, and electrons in io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372360" y="1628640"/>
            <a:ext cx="761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12193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Mass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protons + neutr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877080" y="1773360"/>
            <a:ext cx="226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5da31e"/>
                </a:solidFill>
                <a:latin typeface="Times New Roman"/>
              </a:rPr>
              <a:t>Na</a:t>
            </a:r>
            <a:r>
              <a:rPr b="1" lang="en-GB" sz="9600" spc="-1" strike="noStrike" baseline="30000">
                <a:solidFill>
                  <a:srgbClr val="5da31e"/>
                </a:solidFill>
                <a:latin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443640" y="2492280"/>
            <a:ext cx="762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2590920"/>
            <a:ext cx="5181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Atomic numb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(number of proton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084720" y="2492280"/>
            <a:ext cx="381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Bradley Hand ITC"/>
              </a:rPr>
              <a:t>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443640" y="3068640"/>
            <a:ext cx="76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3860640"/>
            <a:ext cx="5181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number of neutr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3492360" y="1557360"/>
            <a:ext cx="2808360" cy="35892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3851280" y="2924280"/>
            <a:ext cx="2160720" cy="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4788000" y="3500280"/>
            <a:ext cx="1655640" cy="64800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066680" y="4648320"/>
            <a:ext cx="8077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 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	</a:t>
            </a:r>
            <a:r>
              <a:rPr b="1" lang="en-GB" sz="4000" spc="-1" strike="noStrike">
                <a:solidFill>
                  <a:srgbClr val="5da31e"/>
                </a:solidFill>
                <a:latin typeface="Times New Roman"/>
              </a:rPr>
              <a:t>1+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charge means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electron </a:t>
            </a:r>
            <a:r>
              <a:rPr b="1" lang="en-GB" sz="4000" spc="-1" strike="noStrike">
                <a:solidFill>
                  <a:srgbClr val="cc0208"/>
                </a:solidFill>
                <a:latin typeface="Times New Roman"/>
              </a:rPr>
              <a:t>less</a:t>
            </a:r>
            <a:r>
              <a:rPr b="1" lang="en-GB" sz="4000" spc="-1" strike="noStrike">
                <a:solidFill>
                  <a:srgbClr val="1822cd"/>
                </a:solidFill>
                <a:latin typeface="Times New Roman"/>
              </a:rPr>
              <a:t> than the number of protons. This atom has 10 electrons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V="1">
            <a:off x="4495680" y="2590920"/>
            <a:ext cx="4191120" cy="2209680"/>
          </a:xfrm>
          <a:prstGeom prst="line">
            <a:avLst/>
          </a:prstGeom>
          <a:ln w="25560">
            <a:solidFill>
              <a:srgbClr val="cc020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2:03:51Z</dcterms:created>
  <dc:creator>Brouchamp Xavier</dc:creator>
  <dc:description/>
  <dc:language>en-US</dc:language>
  <cp:lastModifiedBy>RomaK</cp:lastModifiedBy>
  <dcterms:modified xsi:type="dcterms:W3CDTF">2015-09-01T16:17:06Z</dcterms:modified>
  <cp:revision>118</cp:revision>
  <dc:subject/>
  <dc:title>Atoms and the periodic table</dc:title>
</cp:coreProperties>
</file>